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F1CE-A0D1-4620-A88B-A23D0153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6777-433A-4364-9AE6-C12B38C5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38E0-C361-4E73-879F-6EFE15A7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9584-7B40-4ED2-9A2F-9D008181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EAD3-5FB9-47BC-8858-D98D646D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7084-B1A9-4EF0-9606-97523FC4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4212-64DF-4DB2-86EF-D846AE2C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B5F0-F42F-434E-86E5-AEE8C106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673E-508C-434F-A5C3-24824A1B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FAE2-ABB1-45CC-B2D3-C9B223A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A7F9-B8CC-42CC-B70A-B1C1899F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0AE2-3D9D-48D4-A9D9-6B795C8D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8791-4F0A-48E6-8586-3D94077AF5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2b20"/>
                </a:solidFill>
                <a:latin typeface="Calibri"/>
              </a:rPr>
              <a:t>Agreement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The most tested grammatical rule on the ACT is </a:t>
            </a:r>
            <a:r>
              <a:rPr b="1" lang="en-US" sz="3000" spc="-1" strike="noStrike">
                <a:solidFill>
                  <a:srgbClr val="2f2b20"/>
                </a:solidFill>
                <a:latin typeface="Calibri"/>
              </a:rPr>
              <a:t>subject/verb</a:t>
            </a: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2f2b20"/>
                </a:solidFill>
                <a:latin typeface="Calibri"/>
              </a:rPr>
              <a:t>pronoun antecedent agreement.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72164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Sample Run-On Sentenc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’s a slacker, Sara isn’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’s a slacker, but Sara isn’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’s a slacker; Sara isn’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’s a slacker.  Sara isn’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d, unlike Sara, is a slacker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721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Sample Fragment Item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mily listened to music.  While she studied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mily listened to music while she studied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5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25760" y="2514240"/>
            <a:ext cx="6400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unctuation Mark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Punctuation Mark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160" y="2133360"/>
            <a:ext cx="746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Semicolon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– used to separate two complete thoughts.  (think period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Colon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– follows a complete thought and often begins a listing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ash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– can be used for any pause. (think comma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6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25760" y="2514240"/>
            <a:ext cx="6400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ecognizing the need for adverb or adjectiv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Adjective or Adverb?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640080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na is an extreme gifted child, and she speaks beautiful too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na is an extremely gifted child, and she speaks beautifully too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7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828800" y="2742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Good or Well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Sample Usage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67652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Joe did good on the AC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Joe did well on the AC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8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2b20"/>
                </a:solidFill>
                <a:latin typeface="Calibri"/>
              </a:rPr>
              <a:t>Idioms</a:t>
            </a:r>
            <a:endParaRPr b="0" lang="en-US" sz="4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ouble check to make sure idioms utilize the correct preposition.  Many words require particular prepositions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Idiom Exampl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idiom is an established phrase that has a unique or special meaning that can be looked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down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in the dictionary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5e47"/>
                </a:solidFill>
                <a:latin typeface="Cambria"/>
              </a:rPr>
              <a:t>Pronoun/Antecedent Agreement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f a student won’t study, 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they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won’t do well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f a student won’t study,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he or she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won’t do well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9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19320" y="219060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f2b20"/>
                </a:solidFill>
                <a:latin typeface="Calibri"/>
              </a:rPr>
              <a:t>Who or Whom</a:t>
            </a:r>
            <a:endParaRPr b="0" lang="en-US" sz="37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2b20"/>
                </a:solidFill>
                <a:latin typeface="Calibri"/>
              </a:rPr>
              <a:t>Who functions as a subject.</a:t>
            </a:r>
            <a:endParaRPr b="0" lang="en-US" sz="37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2b20"/>
                </a:solidFill>
                <a:latin typeface="Calibri"/>
              </a:rPr>
              <a:t>Whom functions as an object.</a:t>
            </a:r>
            <a:endParaRPr b="0" lang="en-US" sz="37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Who or Whom Example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Who washed the car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he gave the present to whom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Use </a:t>
            </a:r>
            <a:r>
              <a:rPr b="0" i="1" lang="en-US" sz="3600" spc="-1" strike="noStrike">
                <a:solidFill>
                  <a:srgbClr val="2f2b20"/>
                </a:solidFill>
                <a:latin typeface="Calibri"/>
              </a:rPr>
              <a:t>who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before a verb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Use </a:t>
            </a:r>
            <a:r>
              <a:rPr b="0" i="1" lang="en-US" sz="3600" spc="-1" strike="noStrike">
                <a:solidFill>
                  <a:srgbClr val="2f2b20"/>
                </a:solidFill>
                <a:latin typeface="Calibri"/>
              </a:rPr>
              <a:t>whom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after a preposition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0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209680"/>
            <a:ext cx="703584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Apostrophe Us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When you make a noun possessive by adding an “s,” you use an apostroph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ample Apostrophe Ques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ince I was a child, my family has gathered at my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grandparent’s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home in Maine each summer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. NO CHANG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. grandparents’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C. grandparent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. grandparen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Possessive Pronou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Never use an apostrophe to make a pronoun possessive.  Pronouns have special possessive forms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company claims its illegal to use it’s name that way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company claims it’s illegal to use its name that way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1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18284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Comparative and Superlativ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Comparing two things – use –er or mor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Comparing more than two things –use –est or most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201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Comparative/Superlative Example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2133360"/>
            <a:ext cx="64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My goldfish is more smarter than your brother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*Never use both more or most and an ending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think vanilla is the most tastiest pudding ever!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2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742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etween or Among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etween – Two thing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mong – More than two thing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Usage Exampl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will walk among the two sections of the class.  I will walk between the many students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will walk between the two sections of the class.  I will walk among the many students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3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Less or Fewer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Use the word less only for uncountable things. 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When things can be counted, use fewer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5e47"/>
                </a:solidFill>
                <a:latin typeface="Cambria"/>
              </a:rPr>
              <a:t>SUBJECT/VERB AGREEMENT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owner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of the bicycles 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is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going to sell the oldest on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owner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of the bicycles 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are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going to sell the oldest one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Usage Exampl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6959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have less people here tonight than last week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 have fewer people here tonight than last week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Grammar Error #14</a:t>
            </a:r>
            <a:br>
              <a:rPr sz="5000"/>
            </a:b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Verb Forms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440" y="2209680"/>
            <a:ext cx="734076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Fritz had just began to toast Lydia’s marshmallows when the rabbits stampeded. 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3311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5</a:t>
            </a:r>
            <a:br>
              <a:rPr sz="6600"/>
            </a:b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Misplaced Modifier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narling and snapping, Juanita attempted to control her pet turtl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72164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16</a:t>
            </a:r>
            <a:br>
              <a:rPr sz="6600"/>
            </a:b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Shifts in Pronoun Person or Numb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379080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amsters should work at the most efficient pace that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one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 can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72164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Grammar Error #17</a:t>
            </a:r>
            <a:br>
              <a:rPr sz="5000"/>
            </a:b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Pronoun Forms and Cases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19320" y="2514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Sam and Susie annoyed </a:t>
            </a:r>
            <a:r>
              <a:rPr b="0" lang="en-US" sz="3000" spc="-1" strike="noStrike" u="sng">
                <a:solidFill>
                  <a:srgbClr val="2f2b20"/>
                </a:solidFill>
                <a:uFillTx/>
                <a:latin typeface="Calibri"/>
              </a:rPr>
              <a:t>there</a:t>
            </a: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 parents all the time.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After the incident with the peanut butter, John and </a:t>
            </a:r>
            <a:r>
              <a:rPr b="0" lang="en-US" sz="3000" spc="-1" strike="noStrike" u="sng">
                <a:solidFill>
                  <a:srgbClr val="2f2b20"/>
                </a:solidFill>
                <a:uFillTx/>
                <a:latin typeface="Calibri"/>
              </a:rPr>
              <a:t>me</a:t>
            </a: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 were never invited back.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Grammar Error #18</a:t>
            </a:r>
            <a:br>
              <a:rPr sz="4600"/>
            </a:b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Parallel Structure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Change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in wind circulation patterns, 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runoff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from sewage, and 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they accumulate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hemical fertilizers can lead to the creation of ocean waters low in oxyg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. No chang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. accumulat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. to accumula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. accumulation of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2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greement Errors with Compound Subjects and Object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72164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Sample Compound Object Item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fool gave the wrong tickets to Bob and I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fool gave the wrong tickets to Bob and me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3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25909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unctuating Non-Essential Words, Phrases, Claus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721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75e47"/>
                </a:solidFill>
                <a:latin typeface="Cambria"/>
              </a:rPr>
              <a:t>Sample Non-Essential</a:t>
            </a:r>
            <a:endParaRPr b="0" lang="en-US" sz="5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362320"/>
            <a:ext cx="7391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Liz—the last girl on the right, is always lat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Liz, the last girl on the right, is always lat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Non-Essential Clau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The Tower of London, which was begun by William the Conqueror in 1078, is one of the largest and most imposing fortifications in England. 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21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75e47"/>
                </a:solidFill>
                <a:latin typeface="Cambria"/>
              </a:rPr>
              <a:t>Grammar Error #4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76520" y="25905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Fragments and Run-on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honey, Joan</dc:creator>
  <dc:description/>
  <dc:language>en-US</dc:language>
  <cp:lastModifiedBy>Van Engen, Jason</cp:lastModifiedBy>
  <cp:lastPrinted>2016-08-28T20:19:33Z</cp:lastPrinted>
  <dcterms:modified xsi:type="dcterms:W3CDTF">2016-09-09T19:55:18Z</dcterms:modified>
  <cp:revision>19</cp:revision>
  <dc:subject/>
  <dc:title>PowerPoint Presentation</dc:title>
</cp:coreProperties>
</file>